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EB50-4B32-4974-BC90-41EFEBD5F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08A6-3423-4D39-96E2-ECE53F1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87D2-5F22-4747-AFC8-483FA484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AD75-43B5-4D1C-AA45-3CF0F8971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2BAE-C015-41AC-9611-69B1A96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47F0-9466-43AC-B373-4A407138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E9D0-A2CB-4691-9C12-71E6D7F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668C-71DF-42AE-B3AE-C0A389C0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02A7-C37E-4EFD-A15F-50D3D153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76F8-0828-4A92-87D5-3DA2AF3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7414-6B98-4918-9CE4-A079028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A896-3802-405E-9BE5-23D6992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3F5-B5F4-433D-8ADF-3D7AAC88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crio.org/USGCRP/LaJolla/cover.html" TargetMode="External"/><Relationship Id="rId2" Type="http://schemas.openxmlformats.org/officeDocument/2006/relationships/hyperlink" Target="http://www.gcrio.org/USGCRP/LaJolla/cov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p.edu/catalog/11820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e of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eder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538020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 the ESIP Federation continues 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tus to create the Federation was on-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well-positioned to continue ou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llenges are to determine, through the planning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do to better serve our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can – and cannot – provide to our partners as we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est to configure ourselves to deliver on that 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was a goo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s that led to the creation of the  Federation have been reaffirm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ntities have jo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ederal agencies have joined the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ederal agencies have adopted the Feder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ituation has changed – for th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lanning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, after reviewing USGCRP, NRC recommended: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esponsibility for product generation, publication, and user services should be held by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deration of partners,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ich w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utilize an open management approach in which key decisions are made wi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munity leadershi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ncourage innovation and creativity throug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de participation of the scientific, public, and private sectors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 Review of the U.S. Global Change Research Program and NASA’s Mission to Planet Earth/Earth Observing Sy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ational Academy Press, 1995, 96 pp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crio.org/USGCRP/LaJolla/cov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6002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SF Cyber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Performance Computing (H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, Data Analysis, and Visu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tual Organizations for Distributed Comm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and Workforc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19680" y="1523880"/>
            <a:ext cx="4019400" cy="487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5720" y="6400800"/>
            <a:ext cx="41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sf.gov/pubs/2007/nsf0728/nsf072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Particip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rom 27 to 106 (and 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 (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Science Mission Dir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cience and Applied Scienc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Side Technology Infu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amental improvements are needed in existing observation and information systems because they only loosely connect three key elements: (1) the 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duce information; (2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es, forecasts, and mode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provide timely and coherent syntheses of otherwise disparate information; and (3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proces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use those analyses and forecasts to produce actions with direct societal benefit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wth:  NRC Decadal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9960" y="617220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Council.  2007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th Science and Applications from Space:  National Imperatives for the Next Decade and Bey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Washington.  437 p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p.edu/catalog/11820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wth: 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urrounding climate change have been re-emphas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changes and likely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 of anticipated conseq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ose consequences that cannot be immediately mi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ire improved linkages between knowledge and action as described by the N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members about the direction, perceived strengths and weaknesses, and future directions of the Federation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with Strategic Partners and other parties to determine their desires and expectations (e.g., NSF, US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Strategic Plan to Executive Committee (M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Assembly at Summe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put from anybody at any time is welcom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1:29:00Z</dcterms:created>
  <dc:creator>The Office for Arid Lands Studies</dc:creator>
  <dc:description/>
  <dc:language>en-US</dc:language>
  <cp:lastModifiedBy>chuck</cp:lastModifiedBy>
  <dcterms:modified xsi:type="dcterms:W3CDTF">2008-01-09T13:11:39Z</dcterms:modified>
  <cp:revision>17</cp:revision>
  <dc:subject/>
  <dc:title>Diffusion of innovation</dc:title>
</cp:coreProperties>
</file>